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BE5-C429-40BD-A0D7-09A862B1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2D3-184B-4A3F-9782-3C7D9BE3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962-1873-4DDB-8C8A-FB087747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819-0318-4318-8DB9-4B0B44C0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355-C9B4-402F-9F2C-F8C1A0FC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77E-90C6-4BE9-938F-56A6581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FD3-749C-4E84-B84D-02C3D43D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115-7BDA-405F-8025-B254B7D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798-380C-4F7A-9F83-FFE7DFAD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CA4-7719-44BC-91D8-18772D3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833-B187-44F7-9721-6CFCA8C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CF4-908C-4713-8271-0A99D36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4A1-7193-4A57-AC6C-365EC073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Image:Innozenz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eeting_of_doctors_at_the_university_of_Paris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acred-destinations.com/france/images/paris/notre-dame-cathedral/rose-window-cc-farl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acred-destinations.com/france/images/paris/notre-dame-cathedral/par1_169-med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storymedren.about.com/library/atlas/natmapce1180.htm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riedrich-barbarossa-und-soehne-welfenchronik_1-1000x154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igh and Late Middle 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Joan of Arc, Witch and Heretic: Powerful Women Had to Fear the Accusation of Witchcraft"/>
          <p:cNvPicPr/>
          <p:nvPr/>
        </p:nvPicPr>
        <p:blipFill>
          <a:blip r:embed="rId1"/>
          <a:stretch/>
        </p:blipFill>
        <p:spPr>
          <a:xfrm>
            <a:off x="2743200" y="160020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rch Power at its H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98 Innocent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s authority over all earthly ru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9 launches a holy war against French heretics; Crusade; tens of thousands slaugh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Papal Sates a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733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i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lliant civilizations in India, Asia, Africa and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the Musl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wars begun in 10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battle Muslims for control of the Holy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s for 20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48320" y="1752480"/>
            <a:ext cx="4267080" cy="41148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ll to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juk Turks (Muslim) overrun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eror asks Pope Urban II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Council of Clermont Urban makes th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hopes to increase his power and heal the Schis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contrast="6000"/>
          </a:blip>
          <a:srcRect l="0" t="0" r="0" b="37526"/>
          <a:stretch/>
        </p:blipFill>
        <p:spPr>
          <a:xfrm>
            <a:off x="4724280" y="1752480"/>
            <a:ext cx="4191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First Crusade is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sad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overrun causing more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87 Jerusalem falls to Sala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91 Muslims overrun the Crusad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medieval picture of Jerusalem"/>
          <p:cNvPicPr/>
          <p:nvPr/>
        </p:nvPicPr>
        <p:blipFill>
          <a:blip r:embed="rId1"/>
          <a:stretch/>
        </p:blipFill>
        <p:spPr>
          <a:xfrm>
            <a:off x="4800600" y="167652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Impact of the Crus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hat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economies expand; trade routes open to move luxury items from the Byzantine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etians build huge fl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of money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1752480"/>
            <a:ext cx="4267080" cy="426744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n Monarchs and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power of the Monar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taxes to support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l power reaches its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ith the Muslim world opened the world to Europeans through trade and expl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95680" y="1219320"/>
            <a:ext cx="3886200" cy="28191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181480" y="4114800"/>
            <a:ext cx="3733920" cy="25909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conqu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mpaign to drive the Muslims from the Iberi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5 Christians retake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00 Christians control peninsula except for Gr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69 Ferdinand and Isabella m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1714320" cy="1457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77120" y="51814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s Being Expelled from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conomic and political conditions improve there is a need for educate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s sees schools and cathedrals to train c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couldn’t attend universities but could go to con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A medieval manuscript showing a meeting of doctors at the University of Par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124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and Roman knowledge lost 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 scholars had translat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s these reach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crisis of faith versus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Aqu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; epics and the Divine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nterbury 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esque to Go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ne; glass; Notre Dame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Notre Dame rose wind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48320" y="53341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rth Ros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archs, Nobles, and the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-1300 the balance of power shi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archs centralized power; expand their domains at expense of the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by townspeople who wanted peace for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n abbot preaching, 14th century"/>
          <p:cNvPicPr/>
          <p:nvPr/>
        </p:nvPicPr>
        <p:blipFill>
          <a:blip r:embed="rId1"/>
          <a:stretch/>
        </p:blipFill>
        <p:spPr>
          <a:xfrm>
            <a:off x="5181480" y="1676520"/>
            <a:ext cx="3276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re Dame Cathed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Notre-Dame Cathedral, Par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3276720" cy="5105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2819520" cy="2228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Interior of Notre-Dame Cathedral, Paris"/>
          <p:cNvPicPr/>
          <p:nvPr/>
        </p:nvPicPr>
        <p:blipFill>
          <a:blip r:embed="rId4"/>
          <a:stretch/>
        </p:blipFill>
        <p:spPr>
          <a:xfrm>
            <a:off x="3657600" y="121932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238880" y="1143000"/>
            <a:ext cx="1638360" cy="2181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Cathedral of Chartres"/>
          <p:cNvPicPr/>
          <p:nvPr/>
        </p:nvPicPr>
        <p:blipFill>
          <a:blip r:embed="rId6"/>
          <a:stretch/>
        </p:blipFill>
        <p:spPr>
          <a:xfrm>
            <a:off x="6553080" y="3809880"/>
            <a:ext cx="2381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47 trading ships dock at Messina; bring Black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348 reached Spain and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bonic Plague; spreads to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c set off by Mongol invasions in the 1200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803" t="15997" r="5201" b="18001"/>
          <a:stretch/>
        </p:blipFill>
        <p:spPr>
          <a:xfrm>
            <a:off x="4038480" y="1371600"/>
            <a:ext cx="2514600" cy="1828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5880" y="2971800"/>
            <a:ext cx="2895840" cy="189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14" name="" descr="Black rat"/>
          <p:cNvPicPr/>
          <p:nvPr/>
        </p:nvPicPr>
        <p:blipFill>
          <a:blip r:embed="rId3"/>
          <a:stretch/>
        </p:blipFill>
        <p:spPr>
          <a:xfrm>
            <a:off x="4267080" y="4724280"/>
            <a:ext cx="3200400" cy="1920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Pl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life breaks down; terror, bodies, people fle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are blamed and persecu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suffers;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splits; The Great Sc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Illustration of the Black Death from the Toggenburg Bible (1411)"/>
          <p:cNvPicPr/>
          <p:nvPr/>
        </p:nvPicPr>
        <p:blipFill>
          <a:blip r:embed="rId1"/>
          <a:stretch/>
        </p:blipFill>
        <p:spPr>
          <a:xfrm>
            <a:off x="4952880" y="1600200"/>
            <a:ext cx="3733920" cy="3067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029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ion of the Black Death from the Toggenburg Bible (14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ndred Years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37-1453 France and England engage in a series of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win early vi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an of Arc fights for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creates sense of nationalism in Fr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monar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sees rise of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Joan of Arc, Witch and Heretic: Powerful Women Had to Fear the Accusation of Witchcraft"/>
          <p:cNvPicPr/>
          <p:nvPr/>
        </p:nvPicPr>
        <p:blipFill>
          <a:blip r:embed="rId1"/>
          <a:stretch/>
        </p:blipFill>
        <p:spPr>
          <a:xfrm>
            <a:off x="4906800" y="1600200"/>
            <a:ext cx="352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of Norm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conquers England; King (10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fs and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aw and trial by 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154 Henry II has serious conflict with church over leg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0 Thomas Becket, archbishop is assass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"/>
          </a:blip>
          <a:srcRect l="3128" t="3857" r="2087" b="3767"/>
          <a:stretch/>
        </p:blipFill>
        <p:spPr>
          <a:xfrm>
            <a:off x="4648320" y="19810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52578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le of Hastings, 10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ving Systems of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angers the Church and his own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5 the nobles force him to sign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nobles rights; due process given to all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subject to the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magnacarta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257800" y="1600200"/>
            <a:ext cx="3352680" cy="38862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257800" y="5562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has a council of advisors; can’t tax arbit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s the Great Council becomes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comes England’s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of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of Com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the Purse; the right to approve any new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666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rchs i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79 Phillip II becomes King of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yalty, taxes, expansion make him most powerful ruler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grandson Louis IV clashes with the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ism; Av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s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Western Schism"/>
          <p:cNvPicPr/>
          <p:nvPr/>
        </p:nvPicPr>
        <p:blipFill>
          <a:blip r:embed="rId1"/>
          <a:stretch/>
        </p:blipFill>
        <p:spPr>
          <a:xfrm>
            <a:off x="5105520" y="182880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y R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harlemagne’s death empire bro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36 Otto I becomes King of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ies to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2 crowned 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control of central and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752480"/>
            <a:ext cx="4124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Versus Empe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54 Henry IV King of Germany; Holy Roman 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gory VII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over lay invest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ommunication; rebellion; ex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2 The Concordat of W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Pope Gregory VII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uggle for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-1200 German emperors try to control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I tries to take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’s defeated but clashes with several p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he’s in Italy his nobles get more independ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Barbarossa, middle, flanked by his two children, King Henry VI (left) and Duke Frederick VI (right). From the Welf Chronic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447920"/>
            <a:ext cx="34290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05:31Z</dcterms:created>
  <dc:creator>MPS</dc:creator>
  <dc:description/>
  <dc:language>en-US</dc:language>
  <cp:lastModifiedBy>MPS</cp:lastModifiedBy>
  <dcterms:modified xsi:type="dcterms:W3CDTF">2008-07-16T14:43:54Z</dcterms:modified>
  <cp:revision>11</cp:revision>
  <dc:subject/>
  <dc:title>The High and Late Middle Ages</dc:title>
</cp:coreProperties>
</file>